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DA1-BA2B-42FA-9C45-C1D1E70C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943-26FC-4A6F-8D10-08B9B8EA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AAEE-E16E-4559-8057-06D39FCA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B08-D487-454D-8BAE-5DA292B7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B8D-5BAA-45D2-B965-2A0B696E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FD7D-C9BA-465F-8038-95C79032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6975-6118-4596-B216-9D102F65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268-AC8E-41E4-91E1-7CF9ED25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1CF-31DE-483A-964A-DC6F00F6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4238-2B9F-4FC6-90A8-C9B29625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0CAD-31BC-44BA-899F-5DAB241B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1429-461E-41DA-8CFA-A87FC25D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A4BE-BD28-4F8F-A66C-CABEC3A5A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lance 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ing the Investment and Financing of a Fi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lance Sheet Content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hare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 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quisition or Historical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ce paid for the 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Replacement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mount currently required to buy an asset (entry 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Realizabl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t amount of cash (selling price less selling costs) that a firm would receive (exit 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Value of Future Net Cash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ture benefit discounted at an interes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lance Sheet Content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, Plant and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angible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bility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term D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Paid-in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ual Effects of Transactions on the Balance Sheet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single transaction will have one of the following four effects or some combination of these eff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ncreases both an asset and a liability or share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decreases both an assets and a liability or share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ncreases one asset and decreases another as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ncreases one liability or shareholders’ equity and decreases another liability or share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14:56:24Z</dcterms:created>
  <dc:creator>ME</dc:creator>
  <dc:description/>
  <dc:language>en-US</dc:language>
  <cp:lastModifiedBy>ME</cp:lastModifiedBy>
  <dcterms:modified xsi:type="dcterms:W3CDTF">2004-07-14T16:28:51Z</dcterms:modified>
  <cp:revision>6</cp:revision>
  <dc:subject/>
  <dc:title>Balance Sheet</dc:title>
</cp:coreProperties>
</file>